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875-3669-4A9A-9035-AA061DDB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BE5-3D77-4AD4-A665-AB2D05DF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B06-516A-41F2-ACE6-C472FE08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FC8-C05E-456E-AC9E-C8FA2CE0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3D0-E9DF-4586-B00F-CFA9420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156-9B7C-4586-A5CB-4C2552A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22A-832F-43D4-BF61-D7832D8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998-86EF-43CD-8C82-A23B004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D63-A75B-42AE-BB53-DDE79F0F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796-B72A-4FDA-BE2B-83AEF99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495-DEF0-4CF0-9FAC-94ADFBD4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54B-9EFA-4C57-8BEC-25FC4E6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8D22-D59E-4A52-BCD2-A8B152C69A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8978" t="38637" r="36133" b="35418"/>
          <a:stretch/>
        </p:blipFill>
        <p:spPr>
          <a:xfrm>
            <a:off x="235080" y="222120"/>
            <a:ext cx="4254480" cy="1897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42" name="TextBox 2"/>
          <p:cNvSpPr/>
          <p:nvPr/>
        </p:nvSpPr>
        <p:spPr>
          <a:xfrm>
            <a:off x="614880" y="2147760"/>
            <a:ext cx="9579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433600" y="2147760"/>
            <a:ext cx="12384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sin(x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30236" t="33204" r="36017" b="26565"/>
          <a:stretch/>
        </p:blipFill>
        <p:spPr>
          <a:xfrm>
            <a:off x="4657680" y="185760"/>
            <a:ext cx="4114800" cy="29433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45" name="TextBox 5"/>
          <p:cNvSpPr/>
          <p:nvPr/>
        </p:nvSpPr>
        <p:spPr>
          <a:xfrm>
            <a:off x="5232600" y="3156120"/>
            <a:ext cx="10159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058160" y="3156120"/>
            <a:ext cx="1238040" cy="64260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2sin(x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5"/>
          <p:cNvSpPr/>
          <p:nvPr/>
        </p:nvSpPr>
        <p:spPr>
          <a:xfrm>
            <a:off x="331920" y="2701800"/>
            <a:ext cx="15872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f(x +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16934" t="32672" r="44772" b="28317"/>
          <a:stretch/>
        </p:blipFill>
        <p:spPr>
          <a:xfrm>
            <a:off x="111240" y="82440"/>
            <a:ext cx="4211640" cy="25750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49" name="TextBox 9"/>
          <p:cNvSpPr/>
          <p:nvPr/>
        </p:nvSpPr>
        <p:spPr>
          <a:xfrm>
            <a:off x="2407320" y="2701800"/>
            <a:ext cx="18190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sin(x +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rcRect l="27159" t="32672" r="33637" b="27746"/>
          <a:stretch/>
        </p:blipFill>
        <p:spPr>
          <a:xfrm>
            <a:off x="4502160" y="96840"/>
            <a:ext cx="4267080" cy="25527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51" name="TextBox 11"/>
          <p:cNvSpPr/>
          <p:nvPr/>
        </p:nvSpPr>
        <p:spPr>
          <a:xfrm>
            <a:off x="4736520" y="267336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2f(x -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6791400" y="2687760"/>
            <a:ext cx="17017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2sin(x - 3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3"/>
          <a:srcRect l="29775" t="38735" r="33637" b="11457"/>
          <a:stretch/>
        </p:blipFill>
        <p:spPr>
          <a:xfrm>
            <a:off x="208080" y="3989520"/>
            <a:ext cx="3933720" cy="2689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54" name="TextBox 15"/>
          <p:cNvSpPr/>
          <p:nvPr/>
        </p:nvSpPr>
        <p:spPr>
          <a:xfrm>
            <a:off x="343440" y="3587760"/>
            <a:ext cx="12672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) -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2418840" y="3587760"/>
            <a:ext cx="149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sin(x) -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4"/>
          <a:srcRect l="30230" t="33051" r="36705" b="11078"/>
          <a:stretch/>
        </p:blipFill>
        <p:spPr>
          <a:xfrm>
            <a:off x="5237280" y="3989520"/>
            <a:ext cx="3252600" cy="2689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57" name="TextBox 18"/>
          <p:cNvSpPr/>
          <p:nvPr/>
        </p:nvSpPr>
        <p:spPr>
          <a:xfrm>
            <a:off x="5279400" y="358776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3f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6912360" y="3587760"/>
            <a:ext cx="1761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3sin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9548" t="32958" r="36484" b="10797"/>
          <a:stretch/>
        </p:blipFill>
        <p:spPr>
          <a:xfrm>
            <a:off x="111240" y="111240"/>
            <a:ext cx="3531960" cy="27111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0" name="TextBox 2"/>
          <p:cNvSpPr/>
          <p:nvPr/>
        </p:nvSpPr>
        <p:spPr>
          <a:xfrm>
            <a:off x="165240" y="2854440"/>
            <a:ext cx="16027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3f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963800" y="2854440"/>
            <a:ext cx="1832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3sin(3x)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rcRect l="30454" t="16097" r="37045" b="36934"/>
          <a:stretch/>
        </p:blipFill>
        <p:spPr>
          <a:xfrm>
            <a:off x="4419720" y="96840"/>
            <a:ext cx="3962160" cy="27432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3" name="TextBox 5"/>
          <p:cNvSpPr/>
          <p:nvPr/>
        </p:nvSpPr>
        <p:spPr>
          <a:xfrm>
            <a:off x="4717800" y="2868480"/>
            <a:ext cx="14562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3x) +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377400" y="2868480"/>
            <a:ext cx="1688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sin(3x) +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rcRect l="30342" t="32672" r="36478" b="33430"/>
          <a:stretch/>
        </p:blipFill>
        <p:spPr>
          <a:xfrm>
            <a:off x="41400" y="4170240"/>
            <a:ext cx="4046400" cy="24796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6" name="TextBox 8"/>
          <p:cNvSpPr/>
          <p:nvPr/>
        </p:nvSpPr>
        <p:spPr>
          <a:xfrm>
            <a:off x="167040" y="375444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3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990800" y="3754440"/>
            <a:ext cx="1833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sin(3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4"/>
          <a:srcRect l="30342" t="16196" r="35684" b="28317"/>
          <a:stretch/>
        </p:blipFill>
        <p:spPr>
          <a:xfrm>
            <a:off x="4446720" y="4141800"/>
            <a:ext cx="4143240" cy="253692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69" name="TextBox 12"/>
          <p:cNvSpPr/>
          <p:nvPr/>
        </p:nvSpPr>
        <p:spPr>
          <a:xfrm>
            <a:off x="4613400" y="3740040"/>
            <a:ext cx="1529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3f(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357600" y="3740040"/>
            <a:ext cx="1761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3sin(x) +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38412" t="18563" r="38359" b="20266"/>
          <a:stretch/>
        </p:blipFill>
        <p:spPr>
          <a:xfrm>
            <a:off x="277920" y="138240"/>
            <a:ext cx="1814400" cy="28684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337680" y="3075120"/>
            <a:ext cx="9579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422360" y="3075120"/>
            <a:ext cx="890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rcRect l="40228" t="5305" r="38126" b="47160"/>
          <a:stretch/>
        </p:blipFill>
        <p:spPr>
          <a:xfrm>
            <a:off x="3033720" y="125280"/>
            <a:ext cx="2203560" cy="290844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75" name="TextBox 5"/>
          <p:cNvSpPr/>
          <p:nvPr/>
        </p:nvSpPr>
        <p:spPr>
          <a:xfrm>
            <a:off x="3059640" y="3075120"/>
            <a:ext cx="12657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457880" y="3075120"/>
            <a:ext cx="1098360" cy="64260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+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6063840" y="3075120"/>
            <a:ext cx="13388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7574040" y="3075120"/>
            <a:ext cx="1292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+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2026440" y="4475160"/>
            <a:ext cx="12808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1940040" y="5361120"/>
            <a:ext cx="13064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6066360" y="4502160"/>
            <a:ext cx="15433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+2)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985000" y="5389560"/>
            <a:ext cx="1751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+2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6539040" y="111240"/>
            <a:ext cx="1565280" cy="2936880"/>
            <a:chOff x="6539040" y="111240"/>
            <a:chExt cx="1565280" cy="2936880"/>
          </a:xfrm>
        </p:grpSpPr>
        <p:pic>
          <p:nvPicPr>
            <p:cNvPr id="84" name="Picture 4" descr=""/>
            <p:cNvPicPr/>
            <p:nvPr/>
          </p:nvPicPr>
          <p:blipFill>
            <a:blip r:embed="rId3"/>
            <a:srcRect l="40458" t="18656" r="41477" b="22067"/>
            <a:stretch/>
          </p:blipFill>
          <p:spPr>
            <a:xfrm>
              <a:off x="6539040" y="111240"/>
              <a:ext cx="1565280" cy="2936880"/>
            </a:xfrm>
            <a:prstGeom prst="rect">
              <a:avLst/>
            </a:prstGeom>
            <a:ln w="50760">
              <a:solidFill>
                <a:srgbClr val="7f7f7f"/>
              </a:solidFill>
              <a:miter/>
            </a:ln>
          </p:spPr>
        </p:pic>
        <p:sp>
          <p:nvSpPr>
            <p:cNvPr id="85" name="TextBox 18"/>
            <p:cNvSpPr/>
            <p:nvPr/>
          </p:nvSpPr>
          <p:spPr>
            <a:xfrm>
              <a:off x="6867000" y="60984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f(x) = x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1"/>
          <p:cNvGrpSpPr/>
          <p:nvPr/>
        </p:nvGrpSpPr>
        <p:grpSpPr>
          <a:xfrm>
            <a:off x="549360" y="3948120"/>
            <a:ext cx="1374840" cy="2646360"/>
            <a:chOff x="549360" y="3948120"/>
            <a:chExt cx="1374840" cy="2646360"/>
          </a:xfrm>
        </p:grpSpPr>
        <p:pic>
          <p:nvPicPr>
            <p:cNvPr id="87" name="Picture 5" descr=""/>
            <p:cNvPicPr/>
            <p:nvPr/>
          </p:nvPicPr>
          <p:blipFill>
            <a:blip r:embed="rId4"/>
            <a:srcRect l="40570" t="18469" r="40910" b="21875"/>
            <a:stretch/>
          </p:blipFill>
          <p:spPr>
            <a:xfrm>
              <a:off x="554040" y="3948120"/>
              <a:ext cx="1370160" cy="2646360"/>
            </a:xfrm>
            <a:prstGeom prst="rect">
              <a:avLst/>
            </a:prstGeom>
            <a:ln w="50760">
              <a:solidFill>
                <a:srgbClr val="7f7f7f"/>
              </a:solidFill>
              <a:miter/>
            </a:ln>
          </p:spPr>
        </p:pic>
        <p:sp>
          <p:nvSpPr>
            <p:cNvPr id="88" name="TextBox 20"/>
            <p:cNvSpPr/>
            <p:nvPr/>
          </p:nvSpPr>
          <p:spPr>
            <a:xfrm>
              <a:off x="549360" y="5195160"/>
              <a:ext cx="11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f(x) = x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4290840" y="3865680"/>
            <a:ext cx="1671840" cy="2825640"/>
            <a:chOff x="4290840" y="3865680"/>
            <a:chExt cx="1671840" cy="2825640"/>
          </a:xfrm>
        </p:grpSpPr>
        <p:pic>
          <p:nvPicPr>
            <p:cNvPr id="90" name="Picture 6" descr=""/>
            <p:cNvPicPr/>
            <p:nvPr/>
          </p:nvPicPr>
          <p:blipFill>
            <a:blip r:embed="rId5"/>
            <a:srcRect l="36023" t="23676" r="43517" b="20832"/>
            <a:stretch/>
          </p:blipFill>
          <p:spPr>
            <a:xfrm>
              <a:off x="4336560" y="3865680"/>
              <a:ext cx="1626120" cy="2825640"/>
            </a:xfrm>
            <a:prstGeom prst="rect">
              <a:avLst/>
            </a:prstGeom>
            <a:ln w="50760">
              <a:solidFill>
                <a:srgbClr val="7f7f7f"/>
              </a:solidFill>
              <a:miter/>
            </a:ln>
          </p:spPr>
        </p:pic>
        <p:sp>
          <p:nvSpPr>
            <p:cNvPr id="91" name="TextBox 22"/>
            <p:cNvSpPr/>
            <p:nvPr/>
          </p:nvSpPr>
          <p:spPr>
            <a:xfrm>
              <a:off x="4290840" y="461340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f(x) = x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rcRect l="31479" t="5586" r="38297" b="41388"/>
          <a:stretch/>
        </p:blipFill>
        <p:spPr>
          <a:xfrm>
            <a:off x="249120" y="179280"/>
            <a:ext cx="2776680" cy="29242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93" name="TextBox 3"/>
          <p:cNvSpPr/>
          <p:nvPr/>
        </p:nvSpPr>
        <p:spPr>
          <a:xfrm>
            <a:off x="314280" y="31305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060640" y="3130560"/>
            <a:ext cx="17636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rcRect l="36138" t="10984" r="37774" b="40531"/>
          <a:stretch/>
        </p:blipFill>
        <p:spPr>
          <a:xfrm>
            <a:off x="4433760" y="193680"/>
            <a:ext cx="2646360" cy="29512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96" name="TextBox 8"/>
          <p:cNvSpPr/>
          <p:nvPr/>
        </p:nvSpPr>
        <p:spPr>
          <a:xfrm>
            <a:off x="4503960" y="3173400"/>
            <a:ext cx="17200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6548400" y="3173400"/>
            <a:ext cx="20415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rcRect l="39888" t="5684" r="33558" b="49813"/>
          <a:stretch/>
        </p:blipFill>
        <p:spPr>
          <a:xfrm>
            <a:off x="208080" y="3892680"/>
            <a:ext cx="2562120" cy="25779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99" name="TextBox 11"/>
          <p:cNvSpPr/>
          <p:nvPr/>
        </p:nvSpPr>
        <p:spPr>
          <a:xfrm>
            <a:off x="2877840" y="44751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3)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798640" y="5070600"/>
            <a:ext cx="17640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-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4"/>
          <a:srcRect l="42271" t="5399" r="29205" b="49149"/>
          <a:stretch/>
        </p:blipFill>
        <p:spPr>
          <a:xfrm>
            <a:off x="4849920" y="3851280"/>
            <a:ext cx="2303280" cy="27576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02" name="TextBox 15"/>
          <p:cNvSpPr/>
          <p:nvPr/>
        </p:nvSpPr>
        <p:spPr>
          <a:xfrm>
            <a:off x="7256160" y="436392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7176960" y="4959360"/>
            <a:ext cx="176400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- 4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rcRect l="39888" t="12500" r="30511" b="28031"/>
          <a:stretch/>
        </p:blipFill>
        <p:spPr>
          <a:xfrm>
            <a:off x="527040" y="277920"/>
            <a:ext cx="2451240" cy="29541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05" name="TextBox 2"/>
          <p:cNvSpPr/>
          <p:nvPr/>
        </p:nvSpPr>
        <p:spPr>
          <a:xfrm>
            <a:off x="2390760" y="3255840"/>
            <a:ext cx="1662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8840" y="3255840"/>
            <a:ext cx="18748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 - 4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39206" t="18750" r="35899" b="22347"/>
          <a:stretch/>
        </p:blipFill>
        <p:spPr>
          <a:xfrm>
            <a:off x="125280" y="125280"/>
            <a:ext cx="2068560" cy="29368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08" name="TextBox 2"/>
          <p:cNvSpPr/>
          <p:nvPr/>
        </p:nvSpPr>
        <p:spPr>
          <a:xfrm>
            <a:off x="268560" y="3089160"/>
            <a:ext cx="9579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3000" y="3089160"/>
            <a:ext cx="10522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rcRect l="38297" t="22347" r="35197" b="27087"/>
          <a:stretch/>
        </p:blipFill>
        <p:spPr>
          <a:xfrm>
            <a:off x="2825640" y="125280"/>
            <a:ext cx="2676600" cy="29638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11" name="TextBox 5"/>
          <p:cNvSpPr/>
          <p:nvPr/>
        </p:nvSpPr>
        <p:spPr>
          <a:xfrm>
            <a:off x="3101760" y="3117960"/>
            <a:ext cx="126576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048120" y="3490920"/>
            <a:ext cx="1509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rcRect l="39206" t="21309" r="35569" b="25285"/>
          <a:stretch/>
        </p:blipFill>
        <p:spPr>
          <a:xfrm>
            <a:off x="6095880" y="179280"/>
            <a:ext cx="2541600" cy="29386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14" name="TextBox 8"/>
          <p:cNvSpPr/>
          <p:nvPr/>
        </p:nvSpPr>
        <p:spPr>
          <a:xfrm>
            <a:off x="7324560" y="3144960"/>
            <a:ext cx="13388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-x)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259760" y="3519360"/>
            <a:ext cx="1509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4"/>
          <a:srcRect l="40683" t="23583" r="35002" b="26993"/>
          <a:stretch/>
        </p:blipFill>
        <p:spPr>
          <a:xfrm>
            <a:off x="263520" y="4067280"/>
            <a:ext cx="2104920" cy="25686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17" name="TextBox 11"/>
          <p:cNvSpPr/>
          <p:nvPr/>
        </p:nvSpPr>
        <p:spPr>
          <a:xfrm>
            <a:off x="2483640" y="4917960"/>
            <a:ext cx="12808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-x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2397240" y="5513400"/>
            <a:ext cx="1509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5"/>
          <a:srcRect l="31024" t="23204" r="34774" b="17333"/>
          <a:stretch/>
        </p:blipFill>
        <p:spPr>
          <a:xfrm>
            <a:off x="4668840" y="3935520"/>
            <a:ext cx="2341440" cy="269064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0" name="TextBox 14"/>
          <p:cNvSpPr/>
          <p:nvPr/>
        </p:nvSpPr>
        <p:spPr>
          <a:xfrm>
            <a:off x="7128360" y="4821120"/>
            <a:ext cx="1662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 + 2)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7037280" y="5416560"/>
            <a:ext cx="20242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 + 2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rcRect l="26817" t="7574" r="36602" b="13450"/>
          <a:stretch/>
        </p:blipFill>
        <p:spPr>
          <a:xfrm>
            <a:off x="277920" y="208080"/>
            <a:ext cx="2106360" cy="27288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3" name="TextBox 2"/>
          <p:cNvSpPr/>
          <p:nvPr/>
        </p:nvSpPr>
        <p:spPr>
          <a:xfrm>
            <a:off x="466560" y="30621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18960" y="365760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rcRect l="28069" t="7672" r="35796" b="13351"/>
          <a:stretch/>
        </p:blipFill>
        <p:spPr>
          <a:xfrm>
            <a:off x="3740040" y="193680"/>
            <a:ext cx="2314800" cy="303372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6" name="TextBox 6"/>
          <p:cNvSpPr/>
          <p:nvPr/>
        </p:nvSpPr>
        <p:spPr>
          <a:xfrm>
            <a:off x="6346440" y="609480"/>
            <a:ext cx="17200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f(x + 3)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192720" y="120492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4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-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3"/>
          <a:srcRect l="36023" t="12215" r="26704" b="23204"/>
          <a:stretch/>
        </p:blipFill>
        <p:spPr>
          <a:xfrm>
            <a:off x="2895480" y="3463920"/>
            <a:ext cx="3038760" cy="31590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29" name="TextBox 9"/>
          <p:cNvSpPr/>
          <p:nvPr/>
        </p:nvSpPr>
        <p:spPr>
          <a:xfrm>
            <a:off x="6216480" y="453060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3)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068880" y="512604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-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rcRect l="37045" t="7953" r="19376" b="13637"/>
          <a:stretch/>
        </p:blipFill>
        <p:spPr>
          <a:xfrm>
            <a:off x="290520" y="290520"/>
            <a:ext cx="2355840" cy="254304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32" name="TextBox 2"/>
          <p:cNvSpPr/>
          <p:nvPr/>
        </p:nvSpPr>
        <p:spPr>
          <a:xfrm>
            <a:off x="466560" y="3062160"/>
            <a:ext cx="158904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18960" y="3657600"/>
            <a:ext cx="20224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rcRect l="41365" t="5492" r="18906" b="8524"/>
          <a:stretch/>
        </p:blipFill>
        <p:spPr>
          <a:xfrm>
            <a:off x="3836880" y="263520"/>
            <a:ext cx="2494080" cy="323856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sp>
        <p:nvSpPr>
          <p:cNvPr id="135" name="TextBox 5"/>
          <p:cNvSpPr/>
          <p:nvPr/>
        </p:nvSpPr>
        <p:spPr>
          <a:xfrm>
            <a:off x="6741000" y="1136520"/>
            <a:ext cx="166212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f(x - 4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6580080" y="1731960"/>
            <a:ext cx="2024280" cy="368280"/>
          </a:xfrm>
          <a:prstGeom prst="rect">
            <a:avLst/>
          </a:prstGeom>
          <a:noFill/>
          <a:ln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= -(x + 3)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8:55:21Z</dcterms:created>
  <dc:creator/>
  <dc:description/>
  <dc:language>en-US</dc:language>
  <cp:lastModifiedBy/>
  <dcterms:modified xsi:type="dcterms:W3CDTF">2008-09-16T21:26:42Z</dcterms:modified>
  <cp:revision>6</cp:revision>
  <dc:subject/>
  <dc:title>Slide 1</dc:title>
</cp:coreProperties>
</file>